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9.gif" ContentType="image/gif"/>
  <Override PartName="/ppt/media/image1.png" ContentType="image/png"/>
  <Override PartName="/ppt/media/image7.jpeg" ContentType="image/jpeg"/>
  <Override PartName="/ppt/media/image15.gif" ContentType="image/gif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E37-B5F5-4EAE-8F81-BEF7A935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1E8-5D46-4AAC-8E22-BB29BCA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E72-3C9F-458E-9869-D81A9A19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5DC-E38F-4C7D-BF0C-5A2CC42A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378-727D-4286-9041-CCE73328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E68-CA2C-4FDB-9EF8-CB97F444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8EA8-B7A6-4655-8222-ED0131A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14A-A6C6-41C0-B28E-673146C3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C667-2EFF-4480-AF9D-6018946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D63-12EE-49B2-AFBD-3460EA1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7BC-7D94-4042-8165-0647F5BC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037-79C5-4207-B75A-EE12B4B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620-7956-4C86-B0B4-CAA4D63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2B2-1800-484D-BC73-367B739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3E63-9E21-4E03-A8E1-7B77A7A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603-ADDF-469A-A0CE-981D6E05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2EB7-D343-478E-8153-62FAF811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971-60A5-4A67-8D39-A0606EE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FD7-6EE6-430B-B43E-594E65C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277-2669-464D-88E4-8EC683F7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BD8-C775-410B-8462-FDB788F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29E-5210-4560-8018-10A24CC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3C1-53AE-4155-A2A8-EBEA489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E53-7488-4546-93EF-93B7421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875F-9FF2-4F52-853A-FBEDEF05C528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82A-716F-4051-8443-3960981C16D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4582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Times New Roman"/>
              </a:rPr>
              <a:t>Предотвращение</a:t>
            </a: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 приобретенной </a:t>
            </a:r>
            <a:r>
              <a:rPr b="1" i="1" lang="en-US" sz="5000" spc="-1" strike="noStrike">
                <a:solidFill>
                  <a:srgbClr val="ff0000"/>
                </a:solidFill>
                <a:latin typeface="Times New Roman"/>
              </a:rPr>
              <a:t>близорукости</a:t>
            </a:r>
            <a:endParaRPr b="0" lang="en-US" sz="5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92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Исследовательская работа на городскую научно-практическую конференцию в рамках программы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«ШАГ В БУДУЩЕЕ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3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. Комплекс упражнений на тренировку глазных мышц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</a:rPr>
              <a:t>Комментарий: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выполняется каждым глазом в отдельности, при этом неиспользуемый глаз остается открытым, лишь прикрывается без нажима ладон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 можно ближе поднести к глазу мелкий предмет, например, кончик шариковой ручки, стараясь видеть четко и ясно все детали. Немного задержать взгляд. (Аккомодационная мышца предельно напряжена, хрусталик наиболее выпуклый, напряжены и косые мышцы, поддерживающие глаз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Взглянуть на мгновение вдаль и снова вернуться в исходное положение.(Сила контраста: напряжение и расслабление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Теперь еще чуть-чуть приблизить предмет к глазу, удерживая его ясное видени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осмотреть вдаль, расслабив тем самым мышц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овторить то же самое (п. 1-4) с другим глазом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7772400" cy="3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. Комплекс упражнений на тренировку глазных мышц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Комментарий: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выполняется обоими глазами, удерживая резкость в изображении линий на коже пальц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згляд сосредоточен на пальце руки, находящимся на расстоянии 40 см по прямой от линии лица. Палец то приближается к глазам, то отдаляется на расстояние вытянутой руки. Так 10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Исходное положение то же самое. Но теперь палец движется влево-вправо – 10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Теперь палец приближается и отдаляется по диагонали слева направо – 10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То же самое, но справа налево – 10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Моргните несколько раз, закройте глаза и с минуту отдохнит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259920"/>
            <a:ext cx="813276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ключение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Глаз – сложно устроенный, чувствительный и ранимый орган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За 11 лет в школе в 4 раза увеличилось количество ребят с близорукостью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60% школьников считают причиной близорукости телевизор и компьюте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Вовремя выявленный спазм аккомодации, даже не в больничных условиях, поможет предотвратить близорукость, проведя соответствующее лечение либо у врача, либо с помощью предлагаемых мною упражнени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93080" y="5805360"/>
            <a:ext cx="1584360" cy="83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Автор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ЯБОВ Кирилл,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 «А» класс МОУ «Средняя школа № 9»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. Усть-Илимск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>
            <a:lum contrast="6000"/>
          </a:blip>
          <a:srcRect l="0" t="5827" r="0" b="0"/>
          <a:stretch/>
        </p:blipFill>
        <p:spPr>
          <a:xfrm rot="21234600">
            <a:off x="2512800" y="1916280"/>
            <a:ext cx="5730840" cy="41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Цель работы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ожно ли предотвратить близорукость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Times New Roman"/>
              </a:rPr>
              <a:t>Задач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Как устроены и как действуют наши глаз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Нарушение зрения и отношение к нему школьнико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чина близорук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Способы выявления и предотвращения начавшейся близорук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901800" cy="131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-153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4464360" cy="309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482436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70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Близорукость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льнозоркость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Астигматиз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Близорукость"/>
          <p:cNvPicPr/>
          <p:nvPr/>
        </p:nvPicPr>
        <p:blipFill>
          <a:blip r:embed="rId2"/>
          <a:stretch/>
        </p:blipFill>
        <p:spPr>
          <a:xfrm>
            <a:off x="2484360" y="549360"/>
            <a:ext cx="3167280" cy="155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Ход луча при близорукости"/>
          <p:cNvPicPr/>
          <p:nvPr/>
        </p:nvPicPr>
        <p:blipFill>
          <a:blip r:embed="rId3"/>
          <a:stretch/>
        </p:blipFill>
        <p:spPr>
          <a:xfrm>
            <a:off x="6300720" y="620640"/>
            <a:ext cx="216216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Дальнозоркость"/>
          <p:cNvPicPr/>
          <p:nvPr/>
        </p:nvPicPr>
        <p:blipFill>
          <a:blip r:embed="rId4"/>
          <a:stretch/>
        </p:blipFill>
        <p:spPr>
          <a:xfrm>
            <a:off x="2556000" y="2924280"/>
            <a:ext cx="309564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Ход луча при дальнозоркости"/>
          <p:cNvPicPr/>
          <p:nvPr/>
        </p:nvPicPr>
        <p:blipFill>
          <a:blip r:embed="rId5"/>
          <a:stretch/>
        </p:blipFill>
        <p:spPr>
          <a:xfrm>
            <a:off x="6372360" y="2924280"/>
            <a:ext cx="2340000" cy="12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Астигматизм"/>
          <p:cNvPicPr/>
          <p:nvPr/>
        </p:nvPicPr>
        <p:blipFill>
          <a:blip r:embed="rId6"/>
          <a:stretch/>
        </p:blipFill>
        <p:spPr>
          <a:xfrm>
            <a:off x="2556000" y="5229360"/>
            <a:ext cx="3097080" cy="162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илиндрические линзы"/>
          <p:cNvPicPr/>
          <p:nvPr/>
        </p:nvPicPr>
        <p:blipFill>
          <a:blip r:embed="rId7"/>
          <a:stretch/>
        </p:blipFill>
        <p:spPr>
          <a:xfrm>
            <a:off x="6443640" y="5300640"/>
            <a:ext cx="2319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37782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Школьный врач</a:t>
            </a:r>
            <a:br>
              <a:rPr sz="2200"/>
            </a:b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расинова Татьяна Борисовна:</a:t>
            </a:r>
            <a:endParaRPr b="0" lang="en-US" sz="2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492000">
            <a:off x="5435640" y="476280"/>
            <a:ext cx="3384360" cy="2774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Из 62 первоклассников –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 с близорукость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з 72 выпускников –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 с близорукость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Посещать врача-окулиста следу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 раз в го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4724280"/>
            <a:ext cx="174312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72400" cy="3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 анкете участвовало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10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школьников 2-6-х классов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00320" y="5791320"/>
            <a:ext cx="69840" cy="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9600" bIns="39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549360"/>
          <a:ext cx="7272360" cy="1881000"/>
        </p:xfrm>
        <a:graphic>
          <a:graphicData uri="http://schemas.openxmlformats.org/drawingml/2006/table">
            <a:tbl>
              <a:tblPr/>
              <a:tblGrid>
                <a:gridCol w="358560"/>
                <a:gridCol w="6337440"/>
                <a:gridCol w="57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то такое близорукость?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Это безобидный дефект, с которым легко жить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ерьезное нарушение здоровья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сего-навсего очки на носу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е знаю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908000" y="2565360"/>
          <a:ext cx="4967640" cy="2303640"/>
        </p:xfrm>
        <a:graphic>
          <a:graphicData uri="http://schemas.openxmlformats.org/drawingml/2006/table">
            <a:tbl>
              <a:tblPr/>
              <a:tblGrid>
                <a:gridCol w="287640"/>
                <a:gridCol w="4119480"/>
                <a:gridCol w="560520"/>
              </a:tblGrid>
              <a:tr h="42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зможная причина близорукости: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Школа и домашние задания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елевизор и (или) компьютер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тение книг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лохая наследственность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е знаю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92360" y="5013360"/>
          <a:ext cx="5327640" cy="1527120"/>
        </p:xfrm>
        <a:graphic>
          <a:graphicData uri="http://schemas.openxmlformats.org/drawingml/2006/table">
            <a:tbl>
              <a:tblPr/>
              <a:tblGrid>
                <a:gridCol w="287640"/>
                <a:gridCol w="4464000"/>
                <a:gridCol w="576000"/>
              </a:tblGrid>
              <a:tr h="42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жно ли ее предотвратить?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а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ет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е знаю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655640" cy="1279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5124600"/>
            <a:ext cx="1800360" cy="1299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90792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Необходимо регулярно проверять зрение,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выявлять спазм аккомодации,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незамедлительно его устранять</a:t>
            </a:r>
            <a:br>
              <a:rPr sz="32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33192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00720" y="5013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9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9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9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9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7772400" cy="3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Комплекс упражнений на расслабление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Слегка приспустить верхние веки, постараться прекратить дрожание век, посмотрев в даль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Закрыть глаза. Полностью расслабить их. Открыть глаза. Так повторить несколько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Сесть напротив стены, на расстояние 2-5 метров. Наметить на стене 2 точки на расстоянии 50 см. Медленно перевести взгляд с 1 точки на 2. Повторить еще несколько раз, замедляя перемещение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Свести взгляд внутрь и кверху – веки сами собой начнут опускаться. Вернуть взгляд в первоначальное положение. Повторить несколько раз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Найти в комнате хорошо освещенный объект, сесть перед ним так, чтобы свет падал сзади. Закрыть ладонями глаза, медленно посчитать до 5. Отнять руки и, поворачивая голову из стороны в сторону, на счет 5 скользить взглядом взад-вперед по объекту. Опять закрыть глаза ладонями, повторить несколько раз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Слегка поглаживая себя пальцами по векам, по бровям, по лбу, вокруг глаз, расслабиться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6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6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36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6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36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6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36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6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36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6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360"/>
                            </p:stCondLst>
                            <p:childTnLst>
                              <p:par>
                                <p:cTn id="2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360"/>
                            </p:stCondLst>
                            <p:childTnLst>
                              <p:par>
                                <p:cTn id="2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6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6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04:22Z</dcterms:created>
  <dc:creator>Kirya</dc:creator>
  <dc:description/>
  <dc:language>en-US</dc:language>
  <cp:lastModifiedBy>Kirya</cp:lastModifiedBy>
  <dcterms:modified xsi:type="dcterms:W3CDTF">2008-01-31T14:03:43Z</dcterms:modified>
  <cp:revision>17</cp:revision>
  <dc:subject/>
  <dc:title>Предотвращение близорукости</dc:title>
</cp:coreProperties>
</file>